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BDB4-EDE8-4BFD-8191-ACCB0EB447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53C-50A3-4DA6-A321-52D1A9AC900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D2A1-12D6-4C5B-BBCA-604D1495EC4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67C-9E41-41E8-A92E-99CCBB70584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807C-9756-4C22-802B-CC1C77BE42D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E740-CCF8-4FC1-ACAC-69DE86F4BD26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4F27-B59E-44FA-96C5-38E1CE5C783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53AF-247D-4FFE-B1EC-053EA6061A8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FA39-9963-4F44-896B-161A49D851B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5BA-0FE3-4918-B486-798A5CA58C0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2221-1C3B-420E-AF09-4750D1AEE08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06DA-3557-4D39-91FA-7825A3033EB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F2E8-D179-4F25-B195-8AF0440DE67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28B7-EB31-44BF-BBCA-24187547604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818A-EA48-4AAE-9644-A5A7FA1E8BE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5301-C077-4991-BEA6-51460341AED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2854-DD6E-448B-B9FD-24B8F531053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CE3B-37BD-493E-A26E-6DA746B41E6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D516-4CE7-41BB-B7FF-BC5DC80FCE51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3795-AF74-4D1D-8C0B-BD04A4B668A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0006-BEF6-40B9-AF04-27BCE964EE66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1386-CD6D-483A-9739-352F68595271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76C7-87D6-405F-8871-F549D9FA282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6342-A42C-474D-82C6-E504501B216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628-8EE4-472E-8BEA-2CC072ED87E6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6240-69B5-4D69-85C9-DB0DB77C410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4F8A-D52A-4B3F-9199-210FEF2F31F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BEE9-17E4-4FAD-812F-90BBEE938C2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EEC7-4F63-4C46-B19E-DF7E596DE9C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5714-9073-4B77-9A8C-096B86788A2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1DD2-C86F-4F9D-8757-4A9A5A31D55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5A68-83BE-4AEE-9CBB-F3D0A463861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A826-8123-455B-AF48-11B2AF313E8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353A-3423-42C3-A25A-5A31E36E9EB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4766-60E0-4D46-B3F2-6BDF7208D1C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5C7F-C38A-47D9-AC5F-7758BB56338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1A3E-CB39-4292-B4BE-2083206B9F61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1718-64BB-44A1-84F8-8CFF5F2A034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35FE-A368-4584-987C-1F439F980E9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1AAF-A858-4A40-A54B-A6C120A7C49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379C-78FA-46C6-A4C5-3B026D94073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2F5-F5AF-4AC7-9038-D6A0E9DD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C96-9C79-4807-96F1-21BCD957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343-3968-4F5F-9502-3309FD4C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3BC-2CA8-46DE-BD4A-ABBE60E0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88BB-D54D-42B0-8ADC-64542E34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E900-441E-422F-9C84-68D2FE99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844B-0B51-44EB-A7A1-6DB4BF61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886A-3AAC-4452-84B0-ECB8B4DF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8336-F3AB-4E66-A388-15DA52FC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275C-046A-491C-B20B-5265FCB3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48C6-29EA-4317-A4D5-93BAE160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4A7-413B-4206-8335-E3108457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75BF-0770-4854-B9EA-5CC24C51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98A-7591-4CBC-80CC-5173AC98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F60F-836F-4F30-8E1F-2C355F4F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7554-A0F5-4952-A7D2-5D142FF5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ADE5-AB61-4261-A7C7-CA507AE9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2F6-1130-4ACB-9F66-20C338D6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F13-8949-4551-AA6D-2AE486D6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2F2-EE91-4AE5-A111-690DAC14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566-F0BA-4248-A6DD-8E9C5BFC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ACB-CB25-4E0F-A02D-48216889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0E5-148D-483C-840B-404E7F57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FC9-731A-4F13-BDDA-CF5E369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74C-8B4F-4E78-90AF-B84DBBD660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23EA-CE2E-4F38-8742-56C2778FB3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Адаптированные образовательные программы для обучающихся с ограниченными возможностями здоровь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Формы представления образовательных результатов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табель успеваемости по предметам (с указанием требований, предъявляемых к  выставлению отметок)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тексты итоговых диагностических контрольных работ, диктантов и анализ их выполнения обучающимся (информация об элементах и уровнях проверяемого знания – знания, понимания, применения, систематизации)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устная оценка успешности результатов, формулировка причин неудач и рекомендаций по устранению пробелов в обученности по предметам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портфолио;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езультаты психолого-педагогических исследований, иллюстрирующих динамику развития отдельных интеллектуальных и личностных качеств обучающегося, УУД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Критериями оценивания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являютс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соответствие достигнутых предметных, метапредметных и личностных результатов обучающихся требованиям к результатам освоения образовательной программы начального общего образования ФГОС;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динамика результатов предметной обученности, формирования УУД.</a:t>
            </a:r>
            <a:r>
              <a:rPr b="1" i="1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2. Содержательный разде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2.1. Программа формирования универсальных учебных действий у обучающихся на ступени начального общего образования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Verdana"/>
              </a:rPr>
              <a:t>Программа формирования универсальных учебных действий является основой разработки рабочих программ отдельных учебных предметов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2.2. Программы отдельных учебных предметов, курсов, курсов внеурочной деятельности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Каждая программа состоит из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- краткая пояснительная записка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- общая характеристики курса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- определение места курса в учебном плане (сколько времени отводится на изучение курса в каждом из классов)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- результаты изучения курса (личностные, метапредметные и предметные)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349200" algn="just"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содержание курса (описать все разделы курса)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Все это прописывается в рабочих программах по предметам, которые будут приложениями к адаптированной образовательной программе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3492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граммы учебных предметов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русский язык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литературное чт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иностранный язык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математик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окружающий мир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изобразительное искусств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музык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физическая культу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держание рабочих программ по каждому предмету нужно соотносить с содержанием программ по этим же предметам в сборнике «Коррекционно-развивающая работа в начальной школе» под ред. С.Г. Шевченк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333000"/>
            <a:ext cx="82296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3. Программа духовно-нравственного развития и воспитания обучающихся на ступени начального общего образо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Основные разделы, цель и задачи программы, ценностные ориентиры программы, принципы программ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Основные направления, ценностные основы и содержание программы духовно-нравственного развития и воспитания обучающихся на ступени начального общего образова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правления представляем в таблице по класса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Совместная деятельность образовательного учреждения, семьи и общественности по духовно-нравственному  развитию и воспитанию обучающихс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анируемые результаты духовно-нравственного развития и воспитания обучающих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спитательные результаты любого из видов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ятельности школьников распределяются по трем уровня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36036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4. Программа формирования культуры здорового и безопасного образа жизни…..108-1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Пояснительная записка (включает нормативное обоснование, цель, задачи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Основные направления реализации программы в конкретной образовательной организации (должно быть 5 направлений, обозначенных в примерной основной общеобразовательной программе ФГОС НОО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ценка эффективности реализации программы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сновные результаты реализации программы  формирования культуры здорового и безопасного образа жизни учащихся оцениваются в рамках мониторинговых процедур, предусматривающих выявление: динамики сезонных заболеваний; динамики школьного травматизма; утомляемости учащихся и т.п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2.5. Программа коррекционной работы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- нормативное обоснование программы, включая ФГОС НОО, концепцию УМК, по которому работает школа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- цель и задачи программы, принципы программы в соответствии с требованиями ФГОС НОО (в каждом принципе указать через что конкретно он реализуется в конкретной образовательной организации)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правления рабо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грамма коррекционной работы на ступени начального общего образования включает в себя взаимосвязанные направления. Данные направления отражают её основное содержани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360360" algn="just"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иагностическая работ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360360" algn="just"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рекционно-развивающая работ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Verdana"/>
              </a:rPr>
              <a:t>преодоление затруднений учащихся в учебной деятельности (указать через что учитель на уроке помогает преодолевать затруднения, показать роль используемого УМК в этом процессе, показать работу по преодолению затруднений в освоении всех учебных предметов и учебных курсов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Verdana"/>
              </a:rPr>
              <a:t>психолого-медико-педагогическое сопровождение школьников, имеющих проблемы в обучении (представить расписание логопедических занятий, циклограмму работы педагога-психолога – сделать их приложениями к адаптированной программе, указать реализуемые авторские программы этих специалистов, если они имеются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консультативная работ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нформационно-просветительская рабо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ждое из этих направлений нужно наполнить содержанием, согласно тому, какая работа ведется в конкретной школе по каждому из направлен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Этапы реализации программ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Этап сбора и анализа информации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информационно-аналитическая деятельность). Результатом данного этапа является оценка контингента обучающихся для учёта особенностей развития детей, определения специфики и их особых образовательных потребностей; оценка образовательной среды с целью соответствия требованиям программно-методического обеспечения, материально-технической и кадровой базы учрежд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Этап планирования, организации, координации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организационно-исполнительская деятельность). Результатом работы является особым образом организованный образовательный процесс, имеющий коррекционно-развивающую направленность и процесс специального сопровождения детей с ограниченными возможностями здоровья при специально созданных (вариативных) условиях обучения, воспитания, развития, социализации рассматриваемой категории дет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Этап диагностики коррекционно-развивающей образовательной среды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контрольно-диагностическая деятельность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езультатом является констатация соответствия созданных условий и выбранных коррекционно-развивающих и образовательных программ особым образовательным потребностям ребёнк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Этап регуляции и корректировки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регулятивно-корректировочная деятельность). Результатом является внесение необходимых изменений в образовательный процесс и процесс сопровождения детей с ограниченными возможностями здоровья, корректировка условий и форм обучения, методов и  приёмов работ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35640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 Механизм реализации программ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дним из основных механизмов реализации коррекционной работы является оптимально выстроенное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заимодействие специалистов образовательного учрежден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обеспечивающее системное сопровождение детей с ограниченными возможностями здоровья специалистами различного профиля в образовательном процесс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ачестве ещё одного механизма реализации коррекционной работы следует обозначить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социальное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артнёрство, которое предполагает профессиональное взаимодействие образовательного учреждения с внешними ресурсами (организациями различных ведомств, общественными организациями и другими институтами общества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Структура адаптированной основной образовательной программы для учащихся с задержкой психического развития, обучающихся по ФГОС (составляется для класса детей с ЗПР – класса КРО или для образовательной организации)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- Требования к условиям реализации программ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язательно нужно отразить условия, которые нужно создать для обучения детей с ЗПР, согласно Приказу Минобрнауки РФ от 30.08.2013 №1015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исываем, как соблюдены требования, предъявляемые к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Психолого-педагогическому обеспечени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Программно-методическому обеспечени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процессе реализации программы коррекционной работы могут быть использованы коррекционно_развивающие программы, диагностический и коррекционно_развивающий инструментарий, необходимый для осуществления профессиональной деятельности учителя, педагога_психолога, социального педагога, учителя_логопеда, учителя_дефектолога и д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Кадровому обеспечени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атериально-техническому обеспечени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нформационному обеспечени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 Организационный раздел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071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1. Учебный план начального общего образования (пояснительная записка с современной нормативно-правовой базой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2. План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3. Система условий реализации основной образовательной программы в соответствии с требованиями Стандар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 Кадровое обеспечение реализации основной образовательной программы НО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зработаны  квалификационные характеристики педагогических работников, которые содержат дополнительные Требования к компетентности педагогических и управленческих кадров (отразить укомплектованность образовательной организации для реализации ФГОС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 Материально-технические условия реализации основной образовательной программы начального общего образования (отразить соответствие СанПиН  и условия для детей с ОВЗ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 Информационно-образовательная среда образовательного учрежд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ебно-методическое и информационное обеспечение реализации основной образовательной программы начального общего образования (отразить обеспеченность школы и учащихся начальных классов ИОР, УМК, учебниками, учебными пособиями, обозначить планы образовательной организации по приобретению не достающего учебно-информационного обеспече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сихолого-педагогические условия реализации основной образовательной программы начального общего образования(условия для психолого-педагогического сопровождения учащихся, индивидуализации и дифференциации обучения, коррекционной и развивающей раб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342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труктура адаптированной образовательной программы для ребенка с ограниченными возможностями здоровья, обучающегося в инклюзивном классе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cecff"/>
                </a:solidFill>
                <a:latin typeface="Arial"/>
              </a:rPr>
              <a:t>Структура адаптированной образовательной программы ребенка с ОВЗ может включать несколько модулей (в зависимости от образовательных потребностей и психофизических особенностей ребенка с ОВЗ):</a:t>
            </a:r>
            <a:br>
              <a:rPr sz="1900"/>
            </a:br>
            <a:r>
              <a:rPr b="0" lang="ru-RU" sz="1900" spc="-1" strike="noStrike">
                <a:solidFill>
                  <a:srgbClr val="ccecff"/>
                </a:solidFill>
                <a:latin typeface="Arial"/>
              </a:rPr>
              <a:t>     - индивидуальный учебный план, определяющий объем и формы организации обучения, в том числе занятия коррекционно-педагогической и психологической направленности (индивидуальные, подгрупповые и групповые);</a:t>
            </a:r>
            <a:br>
              <a:rPr sz="1900"/>
            </a:br>
            <a:r>
              <a:rPr b="0" lang="ru-RU" sz="1900" spc="-1" strike="noStrike">
                <a:solidFill>
                  <a:srgbClr val="ccecff"/>
                </a:solidFill>
                <a:latin typeface="Arial"/>
              </a:rPr>
              <a:t>     - адаптированные программы предметов, изучаемых в рамках основной образовательной программы организации;</a:t>
            </a:r>
            <a:br>
              <a:rPr sz="1900"/>
            </a:br>
            <a:r>
              <a:rPr b="0" lang="ru-RU" sz="1900" spc="-1" strike="noStrike">
                <a:solidFill>
                  <a:srgbClr val="ccecff"/>
                </a:solidFill>
                <a:latin typeface="Arial"/>
              </a:rPr>
              <a:t>     - программы коррекционно-педагогической и психологической направленности в соответствии со специфическими психофизическими особенностями и образовательными потребностями ребенка с ОВЗ (программа логопедической работы, программа работы педагога-психолога, программа работы учителя-дефектолога (олигофренопедагога, сурдопедагога, тифлопедагога),</a:t>
            </a:r>
            <a:br>
              <a:rPr sz="1900"/>
            </a:br>
            <a:r>
              <a:rPr b="0" lang="ru-RU" sz="1900" spc="-1" strike="noStrike">
                <a:solidFill>
                  <a:srgbClr val="ccecff"/>
                </a:solidFill>
                <a:latin typeface="Arial"/>
              </a:rPr>
              <a:t>     - программы дополнительного образования детей, включающие элементы программ специфических учебных предметов, необходимые для компенсации нарушений – например, таких как: «Социально-бытовая ориентировка», «Фонетическая ритмика» и др.</a:t>
            </a:r>
            <a:endParaRPr b="0" lang="en-US" sz="19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cecff"/>
                </a:solidFill>
                <a:latin typeface="Arial"/>
              </a:rPr>
              <a:t>Компонентный состав документа «Адаптированная индивидуальная образовательная программа для ребенка с ОВЗ»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ccecff"/>
                </a:solidFill>
                <a:latin typeface="Arial"/>
              </a:rPr>
              <a:t>      Обязательным компонентом Адаптированной образовательной программы являются краткая психолого-педагогическая характеристика ребенка, цель и задачи коррекционно-развивающей работы, содержание программы, а также требования к уровню подготовленности ребенка, которые позволяют оценить полноту реализации содержания ИОП на уровне динамики тех или иных составляющих его психофизического развития.</a:t>
            </a:r>
            <a:br>
              <a:rPr sz="1900"/>
            </a:br>
            <a:r>
              <a:rPr b="0" lang="ru-RU" sz="1900" spc="-1" strike="noStrike">
                <a:solidFill>
                  <a:srgbClr val="ccecff"/>
                </a:solidFill>
                <a:latin typeface="Arial"/>
              </a:rPr>
              <a:t>       Структура Адаптированной индивидуальной образовательной программы представляет собой единую систему, состоящую из нескольких взаимосвязанных разделов:</a:t>
            </a:r>
            <a:br>
              <a:rPr sz="1900"/>
            </a:br>
            <a:r>
              <a:rPr b="0" lang="ru-RU" sz="1900" spc="-1" strike="noStrike">
                <a:solidFill>
                  <a:srgbClr val="ccecff"/>
                </a:solidFill>
                <a:latin typeface="Arial"/>
              </a:rPr>
              <a:t>       • титульный лист программы с указанием наименования учреждения, назначение программы, срок реализации, адресность программы (фамилия, имя обучающегося, год обучения), гриф утверждения руководителем, согласование с родителями и председателем ПМПк школы, указанием специалиста, который является ответственным за реализацию адаптированной индивидуальной образовательной программы);</a:t>
            </a:r>
            <a:br>
              <a:rPr sz="2000"/>
            </a:br>
            <a:endParaRPr b="0" lang="en-US" sz="19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- пояснительная записка, в которой излагается краткая психолого-педагогическая характеристика ребенка с перечнем сформированных умений и навыков и тех, которые не сформированы в должной степени, структура адаптированной индивидуальной образовательной программы, её цели и задачи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• индивидуальный учебный план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• содержание программы, включающее в себя три основных блока: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- </a:t>
            </a: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образовательный компонент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- </a:t>
            </a: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коррекционный компонент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, в рамках которого излагаются направления коррекционной работы специалистов сопровождения (учителя – логопеда, учителя – дефектолога, педагога – психолога, социального педагога, медицинского работника) с обучающимся, ее приемы, методы и формы, рекомендации выше указанных специалистов учителю и родителям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воспитательный компонент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, содержащий раздел классного руководителя с рекомендациями для родителей обучающегося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• мониторинг достижений обучающегося, в котором конкретно сформулированы результаты реализации программы на уровне динамики показателей психического и психологического развития обучающегося и уровне сформированности ключевых компетенций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• заключение и рекомендации, в котором формулируется обоснование внесения корректив по результатам промежуточной диагностики и заключение о реализации адаптированной индивидуальной программы в целом при обсуждении данного вопроса в рамках итогового психолого-педагогического консилиума в конце учебного года и динамического обследования ребенка на ПМПК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5280" y="333360"/>
          <a:ext cx="8353440" cy="6194520"/>
        </p:xfrm>
        <a:graphic>
          <a:graphicData uri="http://schemas.openxmlformats.org/drawingml/2006/table">
            <a:tbl>
              <a:tblPr/>
              <a:tblGrid>
                <a:gridCol w="2160720"/>
                <a:gridCol w="3095640"/>
                <a:gridCol w="309708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ррекционной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аптированна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тельная програм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76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правлени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и в рамках реализации програм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ррекция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достатков в фи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ческо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 п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хическо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раз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етей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ОВ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зани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мощи в освоении ООП ОО; социальная адаптац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еспечение условий для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и ООП О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оени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 на уровне, доступном ребенку; социальная адап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год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в соответствии с реализацией содержания ООП, прогнозируемого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ингента обучающих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год – в соответствии с рекомендациями ПМПК о создани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альных образовательных услов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56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ингент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ающихся, для которых разрабатывает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личных категор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ОВ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инвалидностью);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ети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ющие парциальные недостатки в развитии школьно-значимых функц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;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слабое здоровь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находящиеся в трудной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зненной ситуации и друг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ребенок из любой категории, имеющий статус «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ок с ОВ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/ил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ребенок-инвалид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70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абатывается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реализует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 руководством администрации ОО специалистами службы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сихолого-педагогического сопровождения, учителями (воспитателям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 руководством администрации ОО (координатора по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клюзии, руководителя СППС) специалистами службы психолого-педагогического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провождения, учителями (воспитателями) с привлечением родителей ребенка с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З в рамках деятельности ПП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5280" y="765000"/>
          <a:ext cx="8353440" cy="5266080"/>
        </p:xfrm>
        <a:graphic>
          <a:graphicData uri="http://schemas.openxmlformats.org/drawingml/2006/table">
            <a:tbl>
              <a:tblPr/>
              <a:tblGrid>
                <a:gridCol w="2160720"/>
                <a:gridCol w="3095640"/>
                <a:gridCol w="309708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тверждает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равляющим Советом О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ректором ОО, подписывается родителями ребенка с ОВ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2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ханиз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и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алистов 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партнер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и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«мини-команде»; взаимодействие с родителями; «гибкая» система «ведения»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а в зависимости от актуальных зада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71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правления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ррекционной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ческое; коррекционно-развивающее; консультативное;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ормационно-просветительское; профилактическое; координационное; экспертно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ческое; коррекционно-развивающее;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илактическое, другие – в зависимости от особенностей психофизического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вития, индивидуальных возможностей обучающегося с ОВЗ (инвалидностью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74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ируемые результаты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ррекционной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оение ООП всеми категориями дет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требующими организаци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сихолого-педагогического сопровож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ожительная динамика развития ребенка; освоени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ОП на доступном уровне; положительное эмоцио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ьное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ояние 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бе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, класса; удовлетворенность родите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1. Целевой раздел</a:t>
            </a:r>
            <a:br>
              <a:rPr sz="2000"/>
            </a:b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1.1. Пояснительная записк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Составляется как в программе по ФГОС, однако указываем, что в программе учитывается специфика психофизического развития детей с ЗПР, их различия в стартовых возможностях обучения и разнообразие образовательных потребностей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1.2. Планируемые результаты освоения обучающимися основной образовательной программы начального общего образовани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личностные результаты;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метапредметные результаты;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предметные результаты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Структура адаптированной образовательной программы для учащихся с умственной отсталостью (составляется для класса или образовательной организации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00040" y="1285920"/>
          <a:ext cx="8186760" cy="4998960"/>
        </p:xfrm>
        <a:graphic>
          <a:graphicData uri="http://schemas.openxmlformats.org/drawingml/2006/table">
            <a:tbl>
              <a:tblPr/>
              <a:tblGrid>
                <a:gridCol w="2714760"/>
                <a:gridCol w="5472000"/>
              </a:tblGrid>
              <a:tr h="85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Адаптированная образовательная программа для обучающихся с умственной отсталость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Основание для разрабо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Федеральный закон от 29 декабря 2012 г. № 273-ФЗ</a:t>
                      </a: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«Об образовании в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Заказчик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Разработчик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Координатор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Исполнител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99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Цель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оздание образовательной среды школы, направленной на  формирование ключевых компетентностей обучающихся с умственной отсталостью,  повышение уровня их социализации в обществе и активной адаптации на рынке труд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200" name="Прямоугольник 4"/>
          <p:cNvSpPr/>
          <p:nvPr/>
        </p:nvSpPr>
        <p:spPr>
          <a:xfrm>
            <a:off x="285840" y="357120"/>
            <a:ext cx="8286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. Целевой разде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1. Паспорт программ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457200" y="428760"/>
          <a:ext cx="8229600" cy="5929200"/>
        </p:xfrm>
        <a:graphic>
          <a:graphicData uri="http://schemas.openxmlformats.org/drawingml/2006/table">
            <a:tbl>
              <a:tblPr/>
              <a:tblGrid>
                <a:gridCol w="2757600"/>
                <a:gridCol w="5472000"/>
              </a:tblGrid>
              <a:tr h="592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Задачи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изучение и учет образовательных потребностей субъектов образовательного процесса, а также познавательных интересов и способностей обучающихся с умственной отсталостью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формирование системы образования, ключевой характеристикой которой становится не только передача знаний и технологий, но и формирование творческих компетентностей на основе  гуманистического, личностно-ориентированного образования, элементов развивающего обучения, а также передовых технологий образовательного процесс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обеспечение непосредственного участия каждого учащегося во всех видах учебной  деятельности для формирования социокультурной воспитательной среды, самовыражения и саморазвити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охранение и укрепление здоровья детей, организации мониторинга физического здоровья учащихся и условий здоровьесберегающей организации учебного процесс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обеспечение медико-психолого-педагогического сопровождения образовательного процесс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оздание и применение методики оценки эффективности коррекционно-развивающего образовательного процесса на основе реализации принципов единства диагностики и коррекции, динамического наблюдения за развитием каждого ребе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улучшение материальных, кадровых и методических условий социально-бытовой подготовки, коррекционно-развивающего обучения и воспитания,</a:t>
                      </a:r>
                      <a:r>
                        <a:rPr b="0" lang="en-US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трудового обучения учащихс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усиление социальной  поддержки учащихся с проблемами в интеллектуальном развитии и усовершенствование  этой рабо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428760" y="714240"/>
          <a:ext cx="8215200" cy="5429520"/>
        </p:xfrm>
        <a:graphic>
          <a:graphicData uri="http://schemas.openxmlformats.org/drawingml/2006/table">
            <a:tbl>
              <a:tblPr/>
              <a:tblGrid>
                <a:gridCol w="2786040"/>
                <a:gridCol w="5429160"/>
              </a:tblGrid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роки 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2013-2014  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Перечень программных направлений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оздание условий для получения качественного образования учащимися с умственной отсталостью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овершенствование профилактической и лечебно-оздоровительной работы</a:t>
                      </a:r>
                      <a:r>
                        <a:rPr b="0" i="1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обеспечение здоровьесберегающего сопровождения образовательного процесс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развитие коррекционно-образовательного потенциала образовательной организаци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Условия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57200" y="428760"/>
          <a:ext cx="8229600" cy="6072120"/>
        </p:xfrm>
        <a:graphic>
          <a:graphicData uri="http://schemas.openxmlformats.org/drawingml/2006/table">
            <a:tbl>
              <a:tblPr/>
              <a:tblGrid>
                <a:gridCol w="2757600"/>
                <a:gridCol w="54720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Ожидаемые результаты реализации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овершенствование предметной среды образовательной организац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Повышение качества коррекционно-развивающей работы на уроках и специальных занятия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Достижение</a:t>
                      </a:r>
                      <a:r>
                        <a:rPr b="0" lang="en-US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взаимодействия специалистов не только на уровне</a:t>
                      </a:r>
                      <a:r>
                        <a:rPr b="0" lang="en-US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диагностики, но</a:t>
                      </a:r>
                      <a:r>
                        <a:rPr b="0" lang="en-US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и в процессе коррекционно-развивающей рабо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Разработка и реализация индивидуальных образовательных маршрутов для обучающихся с умственной отсталостью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Разработка и внедрение концепций и программ учебно- воспитательной рабо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Разработка методических пособий для проведения коррекционно-развивающей работы на уроках и специальных занятия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Разработка структуры и содержания методической рабо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indent="360360">
                        <a:lnSpc>
                          <a:spcPct val="100000"/>
                        </a:lnSpc>
                        <a:buClr>
                          <a:srgbClr val="001d3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Организация социально-педагогического и психологического сопровождения учащихся с умственной отстало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Критериями достижения прогнозируемых результатов являются следующие показатели готовности учащихся с умственной отсталостью к самостоятельной жизн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- устойчивость нравственных качеств ученик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- наличие базы знаний, умений и способности их переноса в новые виды деятельност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- умение не только активно использовать запас знаний, но и потребность обогащать его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- быстрота адаптации к новым видам деятельности, новым условиям труда, общественному мнению коллектива, трудовому режим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785880"/>
          <a:ext cx="8229600" cy="1643040"/>
        </p:xfrm>
        <a:graphic>
          <a:graphicData uri="http://schemas.openxmlformats.org/drawingml/2006/table">
            <a:tbl>
              <a:tblPr/>
              <a:tblGrid>
                <a:gridCol w="2757600"/>
                <a:gridCol w="5472000"/>
              </a:tblGrid>
              <a:tr h="16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истема организации управления и контроля за организацие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Административное управление программой осуществляет директор образовательной организации и его заместители. </a:t>
                      </a:r>
                      <a:r>
                        <a:rPr b="0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Корректировку реализации осуществляет педагогический совет образовательной организац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2. Пояснительная запис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3. Планируемые результаты программы (пишем в строгом соответствии с специальной (коррекционной) образовательной программой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I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ида, по которой конкретная школа обучает детей с умственной отсталостью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4. Система оценки достижения планируемых результатов программ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5. Структура образовательного процесса (учебный график образовательной организации с учетом включения индивидуальных и групповых коррекционных занятий, формы получения образования, на основании какого учебного плана обучаются умственно отсталые дети, описать как осуществляется психолого-медико-педагогическое сопровождение детей с умственной отсталостью в образовательном процессе, организация профессионально-трудового обучения умственно отсталых детей в образовательном процессе, как реализуется воспитательная работа с умственно отсталыми детьми, прописать УМК, по которым работаем с умственно-отсталыми детьми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. Содержательный разде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1. Учебный план и его обоснова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Пояснительная записка к учебному плану (включает современную нормативно-правовую базу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учебный план (на основе регионального базисного учебного плана для детей с умственной отсталостью на 2013-201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2. Общеобразовательные курсы (общее описание учебных предметов и учебных курсов плана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3. Трудовая подготовка (описание реализации трудового обучения в начальной школе и профессионально-трудового обучения по профилям, которые реализует школа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4. Коррекционная подготовка (описание содержания и реализации предметов коррекционной подготовки в соответствии с учебным планом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Педагогические и инновационные технолог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539640" y="3789360"/>
          <a:ext cx="8229600" cy="1714680"/>
        </p:xfrm>
        <a:graphic>
          <a:graphicData uri="http://schemas.openxmlformats.org/drawingml/2006/table">
            <a:tbl>
              <a:tblPr/>
              <a:tblGrid>
                <a:gridCol w="857520"/>
                <a:gridCol w="1357200"/>
                <a:gridCol w="1000080"/>
                <a:gridCol w="1285920"/>
                <a:gridCol w="1214280"/>
                <a:gridCol w="1338480"/>
                <a:gridCol w="1176120"/>
              </a:tblGrid>
              <a:tr h="171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Предме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Автор, наз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здатель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Год изд</a:t>
                      </a:r>
                      <a:r>
                        <a:rPr b="1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Кол</a:t>
                      </a:r>
                      <a:r>
                        <a:rPr b="1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экз</a:t>
                      </a:r>
                      <a:r>
                        <a:rPr b="1" lang="ru-RU" sz="1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емпляр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208" name="Прямоугольник 4"/>
          <p:cNvSpPr/>
          <p:nvPr/>
        </p:nvSpPr>
        <p:spPr>
          <a:xfrm>
            <a:off x="1071720" y="857160"/>
            <a:ext cx="7143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. Организационный разде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1. Требования к условиям реализации адаптированной образовательной программы: кадровое, программно-методическое, материально-техническое обеспеч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граммно-методическое обеспечение образовательного процесс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ить в таблиц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2. Критерии реализации образовательной программы и контроль за её выполнение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дел предполагает мониторинг качества образования умственно отсталых детей (нужно обозначить цель и задачи мониторинга, отследить достижение/недостижение заявленных результатов освоения адаптированной образовательной программы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ставляющие мониторинг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тоговые административные работы по окончании учебного год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проведение и анализ обязательных  выпускных экзаменов по трудовому обучению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ониторинг качества усвоения отдельных предме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охранение здоровья учащих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жение оптимального уровня в развитии, обученности и воспитанности каждого учени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довлетворенность участников педагогического процесса содержанием, организацией и результатами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1.3. Система оценки достижения планируемых результатов освоения основной образовательной программы начального общего образовани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Согласно требованиям ФГОС НОО, образовательная организация самостоятельно разрабатывает систему оценки образовательных достижений учащихся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Личностные результаты оцениваются через портфолио творческих работ и мониторинги, проводимые психологами, не работающими в данной школе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360360" algn="just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онтроль за реализацией программ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ультаты поэтапного выполнения мероприятий анализировать на заседаниях педагогического сове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ировать регулярные отчеты лиц, ответственных за запланированные мероприятия, за выполнение этапов образовательной программ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сти учет фактических показателей, сравнение их с предыдущими показателями и показателями других школ для определения результатов деятель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основании результатов анализа проводить, если это необходимо, корректирующие мероприят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итывать различные тенденции развития социума как в самом общеобразовательном учреждении, так и в сравнении с тенденциями, характерными для города, региона, основанными на социальных факторах развития общества в данный момент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54936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Оценка метапредметных результатов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предполагает оценку универсальных учебных действий учащихся (регулятивных, коммуникативных, познавательных), т. е. таких умственных действий обучающихся, которые направлены на анализ своей познавательной деятельности и управление ею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36036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Оценка метапредметных результатов проводится в ходе различных процедур таких, как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решение задач творческого и поискового характера,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учебное проектирование,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итоговые проверочные работы,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комплексные работы на межпредметной основе,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- мониторинг сформированности основных учебных умений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Оценивание освоения основной общеобразовательной программы НОО происходит через оценку предметных и метапредметных результатов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Основным инструментом итоговой оценки являются итоговые комплексные работы – система заданий различного уровня сложности по чтению, русскому языку, математике и окружающему миру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 учебном процессе оценка предметных результатов проводится с помощью диагностических работ (промежуточных и итоговых), направленных на определение уровня освоения темы учащимися.  Проводится мониторинг результатов выполнения трех итоговых работ – по русскому языку, родному языку, математике – и итоговой комплексной работы на межпредметной основе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35712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500040" y="1214280"/>
          <a:ext cx="8143920" cy="5284800"/>
        </p:xfrm>
        <a:graphic>
          <a:graphicData uri="http://schemas.openxmlformats.org/drawingml/2006/table">
            <a:tbl>
              <a:tblPr/>
              <a:tblGrid>
                <a:gridCol w="2036880"/>
                <a:gridCol w="2035080"/>
                <a:gridCol w="2036880"/>
                <a:gridCol w="2035080"/>
              </a:tblGrid>
              <a:tr h="1067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язательные формы и методы контро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ные формы учета достиж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r>
                        <a:rPr b="0" i="1" lang="en-US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екуща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аттест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r>
                        <a:rPr b="0" i="1" lang="en-US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тоговая (четверть, год) аттест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r>
                        <a:rPr b="0" i="1" lang="en-US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роч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r>
                        <a:rPr b="0" i="1" lang="en-US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еуроч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195640">
                <a:tc rowSpan="2"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устный опро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письмен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самостоятельн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 диктан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 контрольное 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 тестовые за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графическ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изло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док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творческ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посещение уроков по программам наблю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диагностическая  контрольн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диктан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изло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контроль техники чт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анализ динамики текущей успеваем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8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участие  в выставках, конкурсах, соревновани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8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активность в проектах и программах внеурочн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8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b76"/>
                          </a:solidFill>
                          <a:latin typeface="Calibri"/>
                          <a:ea typeface="Calibri"/>
                        </a:rPr>
                        <a:t>- творческий от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4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</a:rPr>
                        <a:t>- портфоли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Calibri"/>
                        </a:rPr>
                        <a:t>- анализ психолого-педагогических исследов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Прямоугольник 4"/>
          <p:cNvSpPr/>
          <p:nvPr/>
        </p:nvSpPr>
        <p:spPr>
          <a:xfrm>
            <a:off x="1285920" y="28584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ормы контроля и учета достижений учащихся можно представить в таблиц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8:40:18Z</dcterms:created>
  <dc:creator>Admin</dc:creator>
  <dc:description/>
  <dc:language>en-US</dc:language>
  <cp:lastModifiedBy>user</cp:lastModifiedBy>
  <dcterms:modified xsi:type="dcterms:W3CDTF">2016-02-02T10:42:22Z</dcterms:modified>
  <cp:revision>113</cp:revision>
  <dc:subject/>
  <dc:title>Слайд 1</dc:title>
</cp:coreProperties>
</file>